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19CF8-DF08-4486-BBA9-3582450B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4E008-07AE-4280-9F2C-75541E492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A3406-9BB6-4EFD-B22F-62DBBBF1F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1EC9A-1AB3-4D08-8DF4-0352171A1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6C0B2-2F89-4C8B-9D70-102081C02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E194A-8143-445E-A958-EA3077C8EC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EAF92-C498-4E0E-BADE-C01655154D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20A0B-1C3E-43AA-AB67-7EBF4634D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69C5D-4435-4825-BEF0-33219E6EB9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52BD9-6233-44A1-B4BE-CA7D5818B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08A88-2698-448E-B902-183A38997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26D51-9824-4F1E-9D17-E2DD22D1C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2752D-2567-4156-93DC-FB7B7D176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1765A-316D-4504-A97A-B2912551B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0A429-C553-44DD-AAAC-AF48E8D900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62488-F891-4B65-B37A-952B887DE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Proučavanje uloge adhezivnih sredstava kao osnovne podloge je opravdano jer ona najefikasnije zatvaraju dentinske kanaliće, štite pulpu od oralnih fluida i bakterija koje prodiru kroz mikropukotine ostvarujući čvrstu vezu između dentina i kompoz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Savremeni koncept restauracije ispuna koji se zasniva na principima adhezije izbacio je iz upotrebe klasična sredstva za toaletu kaviteta zbog toga što nemaju skoro nikakav uticaj na uspostavljanje i jačinu veze između tvrdih zubnih tkiva i estetskih materij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Primena klasičnih sredstava za toaletu kaviteta pre ili posle nagrizanja gleđi i dentina pored toga što je nepotrebna faza rada i gubitak vremena utiče negativno na način veze estetskih materijala i zidova kavit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24B10-0152-4ADB-A98E-B2CF07255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Privremeno zatvaranje kaviteta radi se kod nezavršenih preparacija i odlaganja tretmana do sledeće posete (krvarenje iz gingive, odbijanje deteta i dr.) ili između faza lečenja kada privremeni ispun obezbeđuje aplikovani lek (endodontski tretman, prekrivanje pulp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a12a"/>
                </a:solidFill>
                <a:latin typeface="Trebuchet MS"/>
              </a:rPr>
              <a:t>Za privremeno zatvaranje kaviteta najčešće se kor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ink-oksid-sulfatni cement (Flec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Gutaper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osfatni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olikarboksilni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aste na bazi cink-oksid-eugen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535D4-0463-4186-8091-90242F162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4F004-A7EE-4561-A225-E10E2B6CE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55494-1C88-46D0-85DD-2F31845F0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436-BD0C-4F94-A446-2096D6D8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7C8-8F47-4212-AA88-02BD83B0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1D0-3FC1-4954-A0BE-B2FC121A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0D1-10FF-427D-9CE5-E987386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C72-BB82-4B55-B965-54A9F457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61E-3EE6-474C-BE0C-164C1FF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B5D-17A4-45EE-88B6-AE078FD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FB0-F247-4E92-9770-86F02168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3A4-C5EB-4FB1-95AA-BAFF4D48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9FC-D43A-4566-855F-D4FDF5CF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476-CA0A-4B2C-903C-3DBF2CD1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D53-FE37-4BC4-8EA4-9BC91CB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E9F15-7CBB-4A50-A44C-9A974FC450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00120" y="1655640"/>
            <a:ext cx="9717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: Rounded Corners 9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39800" y="2903400"/>
            <a:ext cx="97138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MATERIJALI U DEČJOJ STOMATOLOGIJI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683720" y="2728800"/>
            <a:ext cx="609840" cy="23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2454120" y="1955880"/>
            <a:ext cx="1219320" cy="1003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645240" y="2451240"/>
            <a:ext cx="50292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P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odloge na bazi 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G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las-jonomer podlo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DLOG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Nedostaci se ogledaju u zahtevnom postupku vezivanja i aplikacije u više koraka, kao i otežanog održavanje suvog radnog polja kod mlađih pacijena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Preporučuju se ko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rebuchet MS"/>
              </a:rPr>
              <a:t>Kaviteta III i V kla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rebuchet MS"/>
              </a:rPr>
              <a:t>M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rebuchet MS"/>
              </a:rPr>
              <a:t>Kao podloga (amortizujući sloj) koji smanjuje stres nastao okluzalnim opterećenj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OMPOZITNI MATERIJAL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T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34800" y="173808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rebuchet MS"/>
              </a:rPr>
              <a:t>Indikacij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fos ru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prekrivanje pulpe u svrhu apeksogeneze kod zuba s nezavršenim rastom korije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očuvanja vitaliteta pulpe kod zuba sa završenim rastom kore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apeksifikacija kod mladih stalnih zuba kod kojih je došlo do odumiranja pul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retrogradno punjenje kanala korena zuba prilikom apikotomije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zatvaranje otvorenih furkacija, popunjavanje defekata uzrokovanih internom ili eksternom resorpcijom i punjenje korenskih kanal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BIODENTIN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96640" y="189036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Biodentin predstavlja trikalcijum silikatni cement, s tim što za razliku od MTA sadrži cirkonijum oksid kao rentgen kontrastno sredstvo i ne sadrži trikalcijum alumin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00120" y="1655640"/>
            <a:ext cx="9717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: Rounded Corners 9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739800" y="2903400"/>
            <a:ext cx="97138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SPECIFIČNE TERAPIJE U</a:t>
            </a:r>
            <a:br>
              <a:rPr sz="4800"/>
            </a:b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DEČJOJ DOBI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83720" y="2728800"/>
            <a:ext cx="609840" cy="2324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2"/>
          <a:stretch/>
        </p:blipFill>
        <p:spPr>
          <a:xfrm>
            <a:off x="2454120" y="1955880"/>
            <a:ext cx="1219320" cy="1003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35160" y="1967040"/>
            <a:ext cx="9524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Dentalna atricija je postupni gubitak tvrdih zubnih tkiva, koji nastaje kao posledica trenja zuba o zub pri okluzalnim kontaktim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Klinički se manifestuje u obliku faseta na zubima antagonisti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TR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35160" y="1967040"/>
            <a:ext cx="9524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Atricija je i fiziološki proces pa kao takva ne zahteva poseban tretman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TR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35160" y="1967040"/>
            <a:ext cx="9524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Dentalna abrazija je gubitak zubne supstance  nezavisno od okluzalnih kontakata, koji nastaje zbog mehaničkog delovanja stranog tela (čvrsta strana tela ili abrazivna sredstva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BRA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35160" y="1967040"/>
            <a:ext cx="9524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Oblici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plitki žlebov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Široki tanjira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Klinasti obli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BRA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35160" y="1967040"/>
            <a:ext cx="9524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600" spc="-1" strike="noStrike">
                <a:solidFill>
                  <a:srgbClr val="f9a12a"/>
                </a:solidFill>
                <a:latin typeface="Trebuchet MS"/>
              </a:rPr>
              <a:t>Erozija zuba predstavljaju nekarijesna oštećenja tvrdog zubnog tkiva u njegovom vratnom delu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rebuchet MS"/>
              </a:rPr>
              <a:t>Spolja kroz hranu, piće i leko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ERO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35160" y="1967040"/>
            <a:ext cx="95248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Primenom različitih stomatoloških materijala na obolelim zubima u dece se</a:t>
            </a: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uspostavlja</a:t>
            </a:r>
            <a:r>
              <a:rPr b="1" lang="sr-Latn-RS" sz="36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prirodni oblik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normalni okluziono-artikulacioni odnos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unkcija zuba (ishrana, govor i estetski izgled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ARAKTERISTIK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739760" y="1986120"/>
            <a:ext cx="67834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Zbog specifičnosti mlečnih i stalnih zuba u dece je veća opasnost od štetnog dejstva materijala u fazi hemijskog veziv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TOKSIČNOST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273640" y="1738440"/>
            <a:ext cx="102888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da se jednostavno priprema</a:t>
            </a:r>
            <a:r>
              <a:rPr b="1" lang="sr-Latn-RS" sz="1600" spc="-1" strike="noStrike">
                <a:solidFill>
                  <a:srgbClr val="f9a12a"/>
                </a:solidFill>
                <a:latin typeface="Trebuchet MS"/>
              </a:rPr>
              <a:t>, </a:t>
            </a: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lako primenjuje, oblikuje i polir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po boji odgovara okolnom zubnom tkiv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ima adhezivna svojstva ka zubnim tkivi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ne menja zapreminu u toku stvrdnjavanj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sprečava nastanak sekundarnog karijes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9a12a"/>
                </a:solidFill>
                <a:latin typeface="Trebuchet MS"/>
              </a:rPr>
              <a:t>ima odgovarajuću čvrstoć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IDEALAN MATERIJAL?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425920" y="2271240"/>
            <a:ext cx="70106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sredstva za toaletu kavi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dentin adhezivna sredst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materijale za privremeno zatvaranje kavi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podlog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meterijale za trajno zatvaranje kavi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materijali za zalivanje fisu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bioaktivni materija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DELA MATERIJAL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273640" y="2271240"/>
            <a:ext cx="64785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Klasična sredstva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nemaju skoro nikakav uticaj na uspostavljanje i jačinu veze između tvrdih zubnih tkiva i estetskih materijal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N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epotrebna faza rada i gubitak vremena 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koji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utiče negativno na način veze estetskih materijala i zidova kavitet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TOALE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234800" y="213840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Materijali za privremene ispune treba da bud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iokompatibilni sa pulpo-dentinskim kompleks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diferentni prema medikamentu koji se stavlja u kavit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aki za pripremu, postavljanje i uklanjanje iz kavi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ostižu dobro rubno zatvara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elativno dobru mehaničku otpornost 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maju slabu rastvorljivost u oralnoj sredin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IVREMENO ZATVARANJE KAVITE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U dečjoj stomatologiji primena ove vrste materijala za privremeno zatvaranje se izbegava zbog jakog mirisa i dugog vezivanja, kao i zbog potencijalnog štetnog dejstva na pulpu mladih zub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CINK OKSID EUGENOL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234800" y="1967040"/>
            <a:ext cx="107442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Moraju pre svega imati</a:t>
            </a:r>
            <a:r>
              <a:rPr b="1" lang="sr-Latn-RS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adhezivnost za tvrda zubna tkiva, posebno dentin pri čemu adhezivne sile moraju biti jače od sila kontrakcije koja nastaje u toku vezivanja materijal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moraju zatvarati otvore dentinskih kanalić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k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ompenzovati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kontrakciju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materijala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i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razlike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koeficijenata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termičk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ekspanzij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sprečavati prodor bakterija oko ispun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da budu kompatibilne u odnosu na pulpo-dentinski komplek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d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imaju biološko preparaciono dejstvo i dr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1445840" y="671400"/>
            <a:ext cx="273240" cy="1038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063800" y="62712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DLOG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37:03Z</dcterms:modified>
  <cp:revision>537</cp:revision>
  <dc:subject/>
  <dc:title>RTG U DEČJOJ STOMATOLOGIJI</dc:title>
</cp:coreProperties>
</file>